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8024-E5EB-4236-8D0A-DF5DFFE68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04B2-3F6A-4AAE-BFC3-71B32D1E1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3F88-FA03-45B7-89DB-7863B82A4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40C9-4C75-4944-B3FF-31E255D23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398C-A08B-4FB9-9DB7-4FDA701C8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B572-8764-4953-88CC-E0132660A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F1E-44A1-4DB5-A27D-2ADD71EE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568-8A54-44D1-A372-7535C6C7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138-0255-4B19-8482-AD79DDD5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4C7-D6F3-4FAE-8526-3E76F6E5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F57-68F7-4D76-831F-D99ED9BC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AF2-D7D4-4BC0-8585-E843098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C9C-92AC-4DA2-9B58-239F05CC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929-CE00-4F89-B40C-C0A728E5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1A9-2CA1-467C-B222-1188297F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031-5C70-4A0F-B4BA-B8B533CE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496-A850-4B4C-9AC8-542B5E2D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02D-BCB0-4F14-8108-BAD3733F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3D14-A70E-4E13-8D6A-E98AA78FF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afd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382840"/>
            <a:ext cx="7815240" cy="188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late verbal expressions into math expressions and vice ver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971800" y="624852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expressions represent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 times a number decreased by 13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x +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x -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 - 7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 + 7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 rot="10800000">
            <a:off x="223560" y="232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228600" y="4559400"/>
            <a:ext cx="4444920" cy="698400"/>
            <a:chOff x="228600" y="45594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292120" y="45594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228600" y="47498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ne of the following expressions represents 28 less than three times a number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 - 3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 - 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 + 3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 + 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AnswerNow"/>
          <p:cNvGrpSpPr/>
          <p:nvPr/>
        </p:nvGrpSpPr>
        <p:grpSpPr>
          <a:xfrm>
            <a:off x="228600" y="4559400"/>
            <a:ext cx="4444920" cy="698400"/>
            <a:chOff x="228600" y="4559400"/>
            <a:chExt cx="4444920" cy="698400"/>
          </a:xfrm>
        </p:grpSpPr>
        <p:sp>
          <p:nvSpPr>
            <p:cNvPr id="87" name="ANShape"/>
            <p:cNvSpPr/>
            <p:nvPr/>
          </p:nvSpPr>
          <p:spPr>
            <a:xfrm>
              <a:off x="2292120" y="45594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NText"/>
            <p:cNvSpPr/>
            <p:nvPr/>
          </p:nvSpPr>
          <p:spPr>
            <a:xfrm>
              <a:off x="228600" y="47498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CorShape1"/>
          <p:cNvSpPr/>
          <p:nvPr/>
        </p:nvSpPr>
        <p:spPr>
          <a:xfrm rot="10800000">
            <a:off x="223560" y="232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35600"/>
            <a:ext cx="7848720" cy="20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a verbal expression for: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8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457200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The ratio of 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to 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 different way of writing the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90720" y="2514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The sum of 8 and 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685800" y="3124080"/>
            <a:ext cx="8077320" cy="1400400"/>
            <a:chOff x="685800" y="3124080"/>
            <a:chExt cx="8077320" cy="1400400"/>
          </a:xfrm>
        </p:grpSpPr>
        <p:sp>
          <p:nvSpPr>
            <p:cNvPr id="94" name="Rectangle 3"/>
            <p:cNvSpPr/>
            <p:nvPr/>
          </p:nvSpPr>
          <p:spPr>
            <a:xfrm>
              <a:off x="685800" y="3124080"/>
              <a:ext cx="8077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" name="Object 6"/>
            <p:cNvGraphicFramePr/>
            <p:nvPr/>
          </p:nvGraphicFramePr>
          <p:xfrm>
            <a:off x="1538280" y="3147840"/>
            <a:ext cx="709560" cy="13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8280" y="3147840"/>
                      <a:ext cx="7095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of the following verbal expressions represents 2x + 9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AnswerNow"/>
          <p:cNvGrpSpPr/>
          <p:nvPr/>
        </p:nvGrpSpPr>
        <p:grpSpPr>
          <a:xfrm>
            <a:off x="228600" y="4800600"/>
            <a:ext cx="4444920" cy="698400"/>
            <a:chOff x="228600" y="4800600"/>
            <a:chExt cx="4444920" cy="698400"/>
          </a:xfrm>
        </p:grpSpPr>
        <p:sp>
          <p:nvSpPr>
            <p:cNvPr id="99" name="ANShape"/>
            <p:cNvSpPr/>
            <p:nvPr/>
          </p:nvSpPr>
          <p:spPr>
            <a:xfrm>
              <a:off x="2292120" y="48006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NText"/>
            <p:cNvSpPr/>
            <p:nvPr/>
          </p:nvSpPr>
          <p:spPr>
            <a:xfrm>
              <a:off x="228600" y="49910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increased by twice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 increased by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ice a number decreased b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less than twice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rShape1"/>
          <p:cNvSpPr/>
          <p:nvPr/>
        </p:nvSpPr>
        <p:spPr>
          <a:xfrm rot="10800000">
            <a:off x="253800" y="173016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expressions represents the sum of 16 and five times a numb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AnswerNow"/>
          <p:cNvGrpSpPr/>
          <p:nvPr/>
        </p:nvGrpSpPr>
        <p:grpSpPr>
          <a:xfrm>
            <a:off x="228600" y="4800600"/>
            <a:ext cx="4444920" cy="698400"/>
            <a:chOff x="228600" y="4800600"/>
            <a:chExt cx="4444920" cy="698400"/>
          </a:xfrm>
        </p:grpSpPr>
        <p:sp>
          <p:nvSpPr>
            <p:cNvPr id="105" name="ANShape"/>
            <p:cNvSpPr/>
            <p:nvPr/>
          </p:nvSpPr>
          <p:spPr>
            <a:xfrm>
              <a:off x="2292120" y="48006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NText"/>
            <p:cNvSpPr/>
            <p:nvPr/>
          </p:nvSpPr>
          <p:spPr>
            <a:xfrm>
              <a:off x="228600" y="49910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CorShape1"/>
          <p:cNvSpPr/>
          <p:nvPr/>
        </p:nvSpPr>
        <p:spPr>
          <a:xfrm rot="10800000">
            <a:off x="223560" y="29113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x -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x +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+ 5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- 5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3 is called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exponen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pow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ans 10 • 10 •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oking at the expression 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10 is called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be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w is it said?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to the first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to the second power or </a:t>
            </a:r>
            <a:r>
              <a:rPr b="1" lang="en-US" sz="4000" spc="-1" strike="noStrike">
                <a:solidFill>
                  <a:srgbClr val="fd020f"/>
                </a:solidFill>
                <a:latin typeface="Times New Roman"/>
              </a:rPr>
              <a:t>two squa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to the third power or </a:t>
            </a:r>
            <a:r>
              <a:rPr b="1" lang="en-US" sz="4000" spc="-1" strike="noStrike">
                <a:solidFill>
                  <a:srgbClr val="fd020f"/>
                </a:solidFill>
                <a:latin typeface="Times New Roman"/>
              </a:rPr>
              <a:t>two cu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times n to the seventh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of the following verbal expressions represents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x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AnswerNow"/>
          <p:cNvGrpSpPr/>
          <p:nvPr/>
        </p:nvGrpSpPr>
        <p:grpSpPr>
          <a:xfrm>
            <a:off x="228600" y="5092560"/>
            <a:ext cx="4444920" cy="698400"/>
            <a:chOff x="228600" y="5092560"/>
            <a:chExt cx="4444920" cy="698400"/>
          </a:xfrm>
        </p:grpSpPr>
        <p:sp>
          <p:nvSpPr>
            <p:cNvPr id="115" name="ANShape"/>
            <p:cNvSpPr/>
            <p:nvPr/>
          </p:nvSpPr>
          <p:spPr>
            <a:xfrm>
              <a:off x="2292120" y="509256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NText"/>
            <p:cNvSpPr/>
            <p:nvPr/>
          </p:nvSpPr>
          <p:spPr>
            <a:xfrm>
              <a:off x="228600" y="528300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CorShape1"/>
          <p:cNvSpPr/>
          <p:nvPr/>
        </p:nvSpPr>
        <p:spPr>
          <a:xfrm rot="10800000">
            <a:off x="253800" y="173016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a number squared and twice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a number and twice th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ce a number less than the number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a number and twice the number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of the following expressions represents four less than the cube of a numb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AnswerNow"/>
          <p:cNvGrpSpPr/>
          <p:nvPr/>
        </p:nvGrpSpPr>
        <p:grpSpPr>
          <a:xfrm>
            <a:off x="228600" y="5092560"/>
            <a:ext cx="4444920" cy="698400"/>
            <a:chOff x="228600" y="5092560"/>
            <a:chExt cx="4444920" cy="698400"/>
          </a:xfrm>
        </p:grpSpPr>
        <p:sp>
          <p:nvSpPr>
            <p:cNvPr id="121" name="ANShape"/>
            <p:cNvSpPr/>
            <p:nvPr/>
          </p:nvSpPr>
          <p:spPr>
            <a:xfrm>
              <a:off x="2292120" y="509256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NText"/>
            <p:cNvSpPr/>
            <p:nvPr/>
          </p:nvSpPr>
          <p:spPr>
            <a:xfrm>
              <a:off x="228600" y="528300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–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– 3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 –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 rot="10800000">
            <a:off x="223560" y="34956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valuate.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20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20f"/>
                </a:solidFill>
                <a:latin typeface="Times New Roman"/>
              </a:rPr>
              <a:t>2 • 2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20f"/>
                </a:solidFill>
                <a:latin typeface="Times New Roman"/>
              </a:rPr>
              <a:t>2 • 2 • 2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20f"/>
                </a:solidFill>
                <a:latin typeface="Times New Roman"/>
              </a:rPr>
              <a:t>We can’t evaluate because we don’t know what n equals to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area of a recta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0043"/>
                </a:solidFill>
                <a:latin typeface="Times New Roman"/>
              </a:rPr>
              <a:t>Length times Wid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length is 3 meters and the width is 2 meters, what is the ar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= 3 x 2 = 6 meter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, L and W are the </a:t>
            </a:r>
            <a:r>
              <a:rPr b="1" lang="en-US" sz="3600" spc="-1" strike="noStrike" u="sng">
                <a:solidFill>
                  <a:srgbClr val="6e0043"/>
                </a:solidFill>
                <a:uFillTx/>
                <a:latin typeface="Times New Roman"/>
              </a:rPr>
              <a:t>variab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It is any letter that represents an unknown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he same as 5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e each and find ou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3 • 3 • 3 • 3 • 3 = </a:t>
            </a:r>
            <a:r>
              <a:rPr b="0" lang="en-US" sz="4400" spc="-1" strike="noStrike">
                <a:solidFill>
                  <a:srgbClr val="fd020f"/>
                </a:solidFill>
                <a:latin typeface="Times New Roman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5 • 5 • 5 = </a:t>
            </a:r>
            <a:r>
              <a:rPr b="0" lang="en-US" sz="4400" spc="-1" strike="noStrike">
                <a:solidFill>
                  <a:srgbClr val="fd020f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020f"/>
                </a:solidFill>
                <a:latin typeface="Times New Roman"/>
              </a:rPr>
              <a:t>243 ≠ 12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not the sa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be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4400" spc="-1" strike="noStrike" u="sng">
                <a:solidFill>
                  <a:srgbClr val="fd020f"/>
                </a:solidFill>
                <a:uFillTx/>
                <a:latin typeface="Times New Roman"/>
              </a:rPr>
              <a:t>algebraic expression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i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one or more numbers or variables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one or more arithmetic ope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-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• 2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4038480" y="5181480"/>
          <a:ext cx="1067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181480"/>
                    <a:ext cx="1067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expressions, there are many different ways to write multipl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• 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(b)  or  (a)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(b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x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not going to use the multiplication symbol any more. Why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afd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vision, on the other hand, is written a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x ÷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3"/>
          <p:cNvGraphicFramePr/>
          <p:nvPr/>
        </p:nvGraphicFramePr>
        <p:xfrm>
          <a:off x="3002040" y="2209680"/>
          <a:ext cx="579240" cy="14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2040" y="2209680"/>
                    <a:ext cx="57924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oughout this year, you will hear many words that mean addition, subtraction, multiplication, and division.  Complete the table with as many as you know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996840" y="2975040"/>
          <a:ext cx="7259760" cy="44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2975040"/>
                    <a:ext cx="725976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Here are some phrases you may have listed. The terms with * are ones that are often used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523880" y="2846520"/>
          <a:ext cx="6629400" cy="39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46520"/>
                    <a:ext cx="6629400" cy="39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be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an algebraic expression fo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creased by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m 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+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7 times the produc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7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xt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  or  7(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)(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)  or 7 • 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 • 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609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11 less than 4 times a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-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90720" y="2362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wo more than 6 times a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65760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6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990720" y="4114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the quotient of a number and 1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4124160" y="4799160"/>
          <a:ext cx="6699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4799160"/>
                    <a:ext cx="6699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1:22Z</dcterms:created>
  <dc:creator>Skip Tyler</dc:creator>
  <dc:description/>
  <dc:language>en-US</dc:language>
  <cp:lastModifiedBy>Guilford County Schools</cp:lastModifiedBy>
  <cp:lastPrinted>2011-11-29T13:38:30Z</cp:lastPrinted>
  <dcterms:modified xsi:type="dcterms:W3CDTF">2012-08-02T18:03:34Z</dcterms:modified>
  <cp:revision>29</cp:revision>
  <dc:subject/>
  <dc:title>Expressions</dc:title>
</cp:coreProperties>
</file>